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55861-1697-4BEC-A166-5EE3702AC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645E5-D5C7-449B-A2FE-22ACE142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828DF-0DC9-4E5B-983B-D0221D65A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64EB8-3E09-46B3-8A06-C9F8B4787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8C88-6338-4940-BE28-E404B0A95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716E-3C96-4DEC-96A1-FEF7E286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A297-D288-4FA8-8EF8-D09E86BB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EE41B-D50B-4BF5-B587-D9CE06B1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4F04-FD79-4325-A15A-78F91564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223D-C60B-403F-9C48-FBABBC3A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6125-8043-4624-A51F-0FD276AC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19D71-3483-4B4B-A90B-5BFC5DD3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2E95-4096-45CA-92A1-429C48B6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3C1E-C33E-4A88-B38F-B5118E68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1D95B-0695-4A0C-8895-FAC6AF59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53B63-BAAE-4E42-8936-F2C56FBFE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D3EA3-21DB-47BB-9FB8-389D737CD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7BA7C-C394-49F7-BB40-3239620B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04B4B-CD31-4079-AB0B-3BF1E742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88DBA-DEE3-4DF5-9B8E-8B936A49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CFBCF-A4DB-4B32-AE67-CB73B432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830CB-7886-448C-93B5-34C0B48D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080C9-C942-4896-AEB1-BED22691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25808-32CA-430F-B46F-8CF47A63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FB53-55EE-47C0-9CF9-336CBFA3BA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626D-17F5-4659-A6A0-06EE73F5C3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19520" y="1295280"/>
            <a:ext cx="58672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100" spc="-1" strike="noStrike">
                <a:solidFill>
                  <a:srgbClr val="ffffff"/>
                </a:solidFill>
                <a:latin typeface="Arial"/>
              </a:rPr>
              <a:t>УЗРОЧНОСТ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CS" sz="4100" spc="-1" strike="noStrike">
                <a:solidFill>
                  <a:srgbClr val="ffffff"/>
                </a:solidFill>
                <a:latin typeface="Arial"/>
              </a:rPr>
              <a:t>каузалност поремећаја здравља и болести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42640" y="43430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685440"/>
            <a:ext cx="7010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900" spc="-1" strike="noStrike">
                <a:solidFill>
                  <a:srgbClr val="ffffff"/>
                </a:solidFill>
                <a:latin typeface="Arial"/>
              </a:rPr>
              <a:t>Постојање повезаности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900" spc="-1" strike="noStrike">
                <a:solidFill>
                  <a:srgbClr val="ffffff"/>
                </a:solidFill>
                <a:latin typeface="Arial Cirilica"/>
              </a:rPr>
              <a:t>двеју</a:t>
            </a:r>
            <a:r>
              <a:rPr b="0" lang="en-US" sz="39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3900" spc="-1" strike="noStrike">
                <a:solidFill>
                  <a:srgbClr val="ffffff"/>
                </a:solidFill>
                <a:latin typeface="Arial Cirilica"/>
              </a:rPr>
              <a:t>појава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Н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мора у сваком случају да означава узрочну асоцијациј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Н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значи да појава која претходи другој представља непосредни узр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900" spc="-1" strike="noStrike">
                <a:solidFill>
                  <a:srgbClr val="ffffff"/>
                </a:solidFill>
                <a:latin typeface="Arial"/>
              </a:rPr>
              <a:t>Повезаност догађаја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А. Статистички неповезани (независн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Б. Статистички повезан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позитивно или негативно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Н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еузрочно повеза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лажно повеза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секундарно повеза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У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зрочно повеза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22904"/>
                </a:solidFill>
                <a:latin typeface="Arial"/>
              </a:rPr>
              <a:t>A.</a:t>
            </a:r>
            <a:r>
              <a:rPr b="0" lang="en-US" sz="3200" spc="-1" strike="noStrike">
                <a:solidFill>
                  <a:srgbClr val="e22904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e22904"/>
                </a:solidFill>
                <a:latin typeface="Arial"/>
              </a:rPr>
              <a:t>Статистичка неповезаност</a:t>
            </a:r>
            <a:br>
              <a:rPr sz="4000"/>
            </a:br>
            <a:r>
              <a:rPr b="0" lang="en-US" sz="4000" spc="-1" strike="noStrike">
                <a:solidFill>
                  <a:srgbClr val="e22904"/>
                </a:solidFill>
                <a:latin typeface="Arial Cirilica"/>
              </a:rPr>
              <a:t>(</a:t>
            </a:r>
            <a:r>
              <a:rPr b="0" lang="sr-CS" sz="4000" spc="-1" strike="noStrike">
                <a:solidFill>
                  <a:srgbClr val="e22904"/>
                </a:solidFill>
                <a:latin typeface="Arial Cirilica"/>
              </a:rPr>
              <a:t>догађаји статистички негативни</a:t>
            </a:r>
            <a:r>
              <a:rPr b="0" lang="en-US" sz="4000" spc="-1" strike="noStrike">
                <a:solidFill>
                  <a:srgbClr val="e22904"/>
                </a:solidFill>
                <a:latin typeface="Arial Cirilica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24382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Веза међу посматраним појавама није статистички значај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Хипотеза се може одбацит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и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роверити хипотезу на већем узор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2904"/>
                </a:solidFill>
                <a:latin typeface="Arial Cirilica"/>
              </a:rPr>
              <a:t>B</a:t>
            </a:r>
            <a:r>
              <a:rPr b="0" lang="sr-CS" sz="4000" spc="-1" strike="noStrike">
                <a:solidFill>
                  <a:srgbClr val="e22904"/>
                </a:solidFill>
                <a:latin typeface="Arial"/>
              </a:rPr>
              <a:t>.</a:t>
            </a:r>
            <a:r>
              <a:rPr b="0" lang="sr-CS" sz="3500" spc="-1" strike="noStrike">
                <a:solidFill>
                  <a:srgbClr val="e22904"/>
                </a:solidFill>
                <a:latin typeface="Arial"/>
              </a:rPr>
              <a:t>  </a:t>
            </a:r>
            <a:r>
              <a:rPr b="0" lang="sr-CS" sz="4000" spc="-1" strike="noStrike">
                <a:solidFill>
                  <a:srgbClr val="e22904"/>
                </a:solidFill>
                <a:latin typeface="Arial"/>
              </a:rPr>
              <a:t>Статистичка повезаност</a:t>
            </a:r>
            <a:br>
              <a:rPr sz="4000"/>
            </a:br>
            <a:r>
              <a:rPr b="0" lang="en-US" sz="4000" spc="-1" strike="noStrike">
                <a:solidFill>
                  <a:srgbClr val="e22904"/>
                </a:solidFill>
                <a:latin typeface="Arial"/>
              </a:rPr>
              <a:t>(</a:t>
            </a:r>
            <a:r>
              <a:rPr b="0" lang="sr-CS" sz="4000" spc="-1" strike="noStrike">
                <a:solidFill>
                  <a:srgbClr val="e22904"/>
                </a:solidFill>
                <a:latin typeface="Arial Cirilica"/>
              </a:rPr>
              <a:t>асоцијација</a:t>
            </a:r>
            <a:r>
              <a:rPr b="0" lang="en-US" sz="4000" spc="-1" strike="noStrike">
                <a:solidFill>
                  <a:srgbClr val="e22904"/>
                </a:solidFill>
                <a:latin typeface="Arial Cirilica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Откривање међусобне повезаност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 Cirilica"/>
              </a:rPr>
              <a:t>Н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ем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значаја у оквиру појединачних случаје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 Cirilica"/>
              </a:rPr>
              <a:t>И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ма смисл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у односу на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категориј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догађај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ојединачни случајеви чије карактеристике оправдавају заједничку класификациј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нпр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.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категорија вакцинисаних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за разлику од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вакцинисаног појединца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900" spc="-1" strike="noStrike">
                <a:solidFill>
                  <a:srgbClr val="ffffff"/>
                </a:solidFill>
                <a:latin typeface="Arial"/>
              </a:rPr>
              <a:t>Статистичка повезаност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900" spc="-1" strike="noStrike">
                <a:solidFill>
                  <a:srgbClr val="ffffff"/>
                </a:solidFill>
                <a:latin typeface="Arial Cirilica"/>
              </a:rPr>
              <a:t>(</a:t>
            </a:r>
            <a:r>
              <a:rPr b="0" lang="sr-CS" sz="3900" spc="-1" strike="noStrike">
                <a:solidFill>
                  <a:srgbClr val="ffffff"/>
                </a:solidFill>
                <a:latin typeface="Arial Cirilica"/>
              </a:rPr>
              <a:t>асоцијација</a:t>
            </a:r>
            <a:r>
              <a:rPr b="0" lang="en-US" sz="3900" spc="-1" strike="noStrike">
                <a:solidFill>
                  <a:srgbClr val="ffffff"/>
                </a:solidFill>
                <a:latin typeface="Arial Cirilica"/>
              </a:rPr>
              <a:t>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0" y="2209320"/>
            <a:ext cx="8991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Статистички тестов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откривају </a:t>
            </a:r>
            <a:r>
              <a:rPr b="0" lang="sr-CS" sz="2800" spc="-1" strike="noStrike">
                <a:solidFill>
                  <a:srgbClr val="ffcc00"/>
                </a:solidFill>
                <a:latin typeface="Arial"/>
              </a:rPr>
              <a:t>статистичку значајност повезаност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посматраних поја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колико су вакцинација и одсуство болести асоцирани чешће од очекиваног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повезаност је израз одређеног степена вероватноће, не 100% сигурности (не значи да је у питању изрочна асоцијациј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e22904"/>
                </a:solidFill>
                <a:latin typeface="Arial Cirilica"/>
              </a:rPr>
              <a:t>B1.</a:t>
            </a:r>
            <a:r>
              <a:rPr b="0" lang="en-US" sz="3900" spc="-1" strike="noStrike">
                <a:solidFill>
                  <a:srgbClr val="e22904"/>
                </a:solidFill>
                <a:latin typeface="Arial"/>
              </a:rPr>
              <a:t> </a:t>
            </a:r>
            <a:r>
              <a:rPr b="0" lang="sr-CS" sz="3900" spc="-1" strike="noStrike">
                <a:solidFill>
                  <a:srgbClr val="e22904"/>
                </a:solidFill>
                <a:latin typeface="Arial"/>
              </a:rPr>
              <a:t>НЕузрочна</a:t>
            </a:r>
            <a:r>
              <a:rPr b="0" lang="en-US" sz="3900" spc="-1" strike="noStrike">
                <a:solidFill>
                  <a:srgbClr val="e22904"/>
                </a:solidFill>
                <a:latin typeface="Arial"/>
              </a:rPr>
              <a:t> </a:t>
            </a:r>
            <a:r>
              <a:rPr b="0" lang="sr-CS" sz="3900" spc="-1" strike="noStrike">
                <a:solidFill>
                  <a:srgbClr val="e22904"/>
                </a:solidFill>
                <a:latin typeface="Arial Cirilica"/>
              </a:rPr>
              <a:t>статистичка</a:t>
            </a:r>
            <a:r>
              <a:rPr b="0" lang="sr-CS" sz="3900" spc="-1" strike="noStrike">
                <a:solidFill>
                  <a:srgbClr val="e22904"/>
                </a:solidFill>
                <a:latin typeface="Arial"/>
              </a:rPr>
              <a:t> повезаност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266688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Статистичка повезаност међу догађајим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НЕ значи да је веза узроч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M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оже би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лаж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секундар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ffffff"/>
                </a:solidFill>
                <a:latin typeface="Arial"/>
              </a:rPr>
              <a:t>НЕузрочна </a:t>
            </a:r>
            <a:r>
              <a:rPr b="1" lang="sr-CS" sz="3500" spc="-1" strike="noStrike">
                <a:solidFill>
                  <a:srgbClr val="ffffff"/>
                </a:solidFill>
                <a:latin typeface="Arial Cirilica"/>
              </a:rPr>
              <a:t>статистичка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500" spc="-1" strike="noStrike">
                <a:solidFill>
                  <a:srgbClr val="ffffff"/>
                </a:solidFill>
                <a:latin typeface="Arial"/>
              </a:rPr>
              <a:t>повезаност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sr-CS" sz="3500" spc="-1" strike="noStrike">
                <a:solidFill>
                  <a:srgbClr val="e22904"/>
                </a:solidFill>
                <a:latin typeface="Arial Cirilica"/>
              </a:rPr>
              <a:t>Лажна повезаност 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8991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Запажена веза је последиц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Случајне грешке (насумичн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Систематске грешке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(проверити и одредити њен допринос у сваком испитивању узрочне повезаност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еуједначени критеријуми при 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избору испитаник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(селективна грешк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грешка у 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прикупљању податак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(грешке мерења: ускраћивање тачних одговора и грешка сећањ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НЕузрочн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 Cirilica"/>
              </a:rPr>
              <a:t>статистичка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 повезанос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sr-CS" sz="3200" spc="-1" strike="noStrike">
                <a:solidFill>
                  <a:srgbClr val="e22904"/>
                </a:solidFill>
                <a:latin typeface="Arial Cirilica"/>
              </a:rPr>
              <a:t>Секундарна повезанос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Велики број статистичких асоцијација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НЕ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испуњава захтев да 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промена у једној појави мења друг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Најчешће су изложеност и болест п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везани са неком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варијаблом (конфаундинг фактором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Ова врста асоцираности је че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99840" y="457200"/>
            <a:ext cx="7162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22904"/>
                </a:solidFill>
                <a:latin typeface="Arial Cirilica"/>
              </a:rPr>
              <a:t>B2. </a:t>
            </a:r>
            <a:r>
              <a:rPr b="0" lang="sr-CS" sz="3500" spc="-1" strike="noStrike">
                <a:solidFill>
                  <a:srgbClr val="e22904"/>
                </a:solidFill>
                <a:latin typeface="Arial"/>
              </a:rPr>
              <a:t>Узрочна </a:t>
            </a:r>
            <a:r>
              <a:rPr b="0" lang="en-US" sz="3500" spc="-1" strike="noStrike">
                <a:solidFill>
                  <a:srgbClr val="e22904"/>
                </a:solidFill>
                <a:latin typeface="Arial Cirilica"/>
              </a:rPr>
              <a:t>(</a:t>
            </a:r>
            <a:r>
              <a:rPr b="0" lang="sr-CS" sz="3500" spc="-1" strike="noStrike">
                <a:solidFill>
                  <a:srgbClr val="e22904"/>
                </a:solidFill>
                <a:latin typeface="Arial Cirilica"/>
              </a:rPr>
              <a:t>КАУЗАЛНА</a:t>
            </a:r>
            <a:r>
              <a:rPr b="0" lang="en-US" sz="3500" spc="-1" strike="noStrike">
                <a:solidFill>
                  <a:srgbClr val="e22904"/>
                </a:solidFill>
                <a:latin typeface="Arial Cirilica"/>
              </a:rPr>
              <a:t>) </a:t>
            </a:r>
            <a:r>
              <a:rPr b="0" lang="sr-CS" sz="3500" spc="-1" strike="noStrike">
                <a:solidFill>
                  <a:srgbClr val="e22904"/>
                </a:solidFill>
                <a:latin typeface="Arial Cirilica"/>
              </a:rPr>
              <a:t>статистичка</a:t>
            </a:r>
            <a:r>
              <a:rPr b="0" lang="en-US" sz="3500" spc="-1" strike="noStrike">
                <a:solidFill>
                  <a:srgbClr val="e22904"/>
                </a:solidFill>
                <a:latin typeface="Arial"/>
              </a:rPr>
              <a:t> </a:t>
            </a:r>
            <a:r>
              <a:rPr b="0" lang="sr-CS" sz="3500" spc="-1" strike="noStrike">
                <a:solidFill>
                  <a:srgbClr val="e22904"/>
                </a:solidFill>
                <a:latin typeface="Arial"/>
              </a:rPr>
              <a:t>повезаност</a:t>
            </a:r>
            <a:r>
              <a:rPr b="0" lang="en-US" sz="3500" spc="-1" strike="noStrike">
                <a:solidFill>
                  <a:srgbClr val="e22904"/>
                </a:solidFill>
                <a:latin typeface="Arial"/>
              </a:rPr>
              <a:t> </a:t>
            </a:r>
            <a:r>
              <a:rPr b="0" lang="sr-CS" sz="3500" spc="-1" strike="noStrike">
                <a:solidFill>
                  <a:srgbClr val="e22904"/>
                </a:solidFill>
                <a:latin typeface="Arial"/>
              </a:rPr>
              <a:t>(асоцијација)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-360" y="2285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Дефиниција: промена у једној појави мења друг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Статистичка повезаност међу посматраним догађајима не значи да је асоцијација узроч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Мањи део статистичке повезаности је каузалан у складу са данашњом дефинициј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7560" y="6858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Закључивање о каузалности на основу епидемиолошких податак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2361960"/>
            <a:ext cx="86108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Cirilica"/>
              </a:rPr>
              <a:t>    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Ако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je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у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студији ИСКЊУЧЕН утицај 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случајн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систематск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грешке као и 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конфаундинг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фактора закључујемо д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Постој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сигурна статистичка асоцијациј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међу посматр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ним догађајима, а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 Cirilica"/>
              </a:rPr>
              <a:t>Не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 знач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да је асоцијација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узроч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701064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500" spc="-1" strike="noStrike">
                <a:solidFill>
                  <a:srgbClr val="ffffff"/>
                </a:solidFill>
                <a:latin typeface="Arial"/>
              </a:rPr>
              <a:t>Епидемиологија </a:t>
            </a:r>
            <a:r>
              <a:rPr b="0" lang="en-US" sz="3500" spc="-1" strike="noStrike">
                <a:solidFill>
                  <a:srgbClr val="ffffff"/>
                </a:solidFill>
                <a:latin typeface="Arial Cirilica"/>
              </a:rPr>
              <a:t>je</a:t>
            </a:r>
            <a:r>
              <a:rPr b="0" lang="sr-CS" sz="3500" spc="-1" strike="noStrike">
                <a:solidFill>
                  <a:srgbClr val="ffffff"/>
                </a:solidFill>
                <a:latin typeface="Arial Cirilica"/>
              </a:rPr>
              <a:t> наука о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83055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Дистрибуциј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(распрострањености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и учесталости поремећаја здрављ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Детерминантама, узроцима поремећаја здравља (факторима који их условљавају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Спречавању и сузбијању поремећаја здрављ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Два начина провере каузалности статистичких асоцијац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нтролисани експеримен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ритеријуми који подржавају каузалну природу асоцијац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7086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Критеријуми који подржавају каузалну природу асоцијације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sr-CS" sz="2800" spc="-1" strike="noStrike">
                <a:solidFill>
                  <a:srgbClr val="ffffff"/>
                </a:solidFill>
                <a:latin typeface="Arial Cirilica"/>
              </a:rPr>
              <a:t>које користимо у процени каузалне повезаности</a:t>
            </a:r>
            <a:r>
              <a:rPr b="1" lang="en-US" sz="2800" spc="-1" strike="noStrike">
                <a:solidFill>
                  <a:srgbClr val="ffffff"/>
                </a:solidFill>
                <a:latin typeface="Arial Cirilic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22904"/>
                </a:solidFill>
                <a:latin typeface="Arial"/>
              </a:rPr>
              <a:t>Временски редосле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22904"/>
                </a:solidFill>
                <a:latin typeface="Arial"/>
              </a:rPr>
              <a:t>Чврстина повеза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22904"/>
                </a:solidFill>
                <a:latin typeface="Arial"/>
              </a:rPr>
              <a:t>Постојаност повеза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22904"/>
                </a:solidFill>
                <a:latin typeface="Arial"/>
              </a:rPr>
              <a:t>Слагање са постојећим познавањем боле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22904"/>
                </a:solidFill>
                <a:latin typeface="Arial"/>
              </a:rPr>
              <a:t>Слагање између дозе и ефек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22904"/>
                </a:solidFill>
                <a:latin typeface="Arial"/>
              </a:rPr>
              <a:t>Специфичност међусобне повеза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2290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Критеријум који подржава каузалну природу асоцијације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sr-CS" sz="2800" spc="-1" strike="noStrike" u="sng">
                <a:solidFill>
                  <a:srgbClr val="e22904"/>
                </a:solidFill>
                <a:uFillTx/>
                <a:latin typeface="Arial Cirilica"/>
              </a:rPr>
              <a:t>ВРЕМЕНСКИ РЕДОСЛЕД</a:t>
            </a:r>
            <a:r>
              <a:rPr b="1" lang="en-US" sz="2800" spc="-1" strike="noStrike" u="sng">
                <a:solidFill>
                  <a:srgbClr val="e22904"/>
                </a:solidFill>
                <a:uFillTx/>
                <a:latin typeface="Arial Cirilica"/>
              </a:rPr>
              <a:t> </a:t>
            </a:r>
            <a:r>
              <a:rPr b="1" lang="sr-CS" sz="2800" spc="-1" strike="noStrike" u="sng">
                <a:solidFill>
                  <a:srgbClr val="e22904"/>
                </a:solidFill>
                <a:uFillTx/>
                <a:latin typeface="Arial Cirilica"/>
              </a:rPr>
              <a:t>(хронологија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де у прилог узрочне повеза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 Cirilica"/>
              </a:rPr>
              <a:t>Д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огађаји узрочно повезани само када временски следе један за други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У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колико се јављају 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истовремено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или у 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различитим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временским односима (различито претходе један другом)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 Cirilica"/>
              </a:rPr>
              <a:t>Н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могу се сматрати каузални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Критеријум који подржава каузалну природу асоцијације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sr-CS" sz="2800" spc="-1" strike="noStrike" u="sng">
                <a:solidFill>
                  <a:srgbClr val="e22904"/>
                </a:solidFill>
                <a:uFillTx/>
                <a:latin typeface="Arial Cirilica"/>
              </a:rPr>
              <a:t>Временски редослед</a:t>
            </a:r>
            <a:r>
              <a:rPr b="1" lang="en-US" sz="2800" spc="-1" strike="noStrike" u="sng">
                <a:solidFill>
                  <a:srgbClr val="e22904"/>
                </a:solidFill>
                <a:uFillTx/>
                <a:latin typeface="Arial Cirilica"/>
              </a:rPr>
              <a:t> </a:t>
            </a:r>
            <a:r>
              <a:rPr b="1" lang="sr-CS" sz="2800" spc="-1" strike="noStrike" u="sng">
                <a:solidFill>
                  <a:srgbClr val="e22904"/>
                </a:solidFill>
                <a:uFillTx/>
                <a:latin typeface="Arial Cirilica"/>
              </a:rPr>
              <a:t>(хронологиј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Акутне заразне болест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(временски след очигледан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Хроничне болест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(са дугим латентним периодом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Критеријум који подржава каузалну природу асоцијације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sr-CS" sz="2800" spc="-1" strike="noStrike" u="sng">
                <a:solidFill>
                  <a:srgbClr val="e22904"/>
                </a:solidFill>
                <a:uFillTx/>
                <a:latin typeface="Arial Cirilica"/>
              </a:rPr>
              <a:t>ЧВРСТИНА ПОВЕЗА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Однос стопе оболевања у изложених и неизложених (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sr-Latn-C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/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ē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) неком хипотетичком узро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Уколико је однос већи, већа је и вероватноћа да је веза кузал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Критеријум који подржава каузалну природу асоцијације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sr-CS" sz="2800" spc="-1" strike="noStrike" u="sng">
                <a:solidFill>
                  <a:srgbClr val="e22904"/>
                </a:solidFill>
                <a:uFillTx/>
                <a:latin typeface="Arial Cirilica"/>
              </a:rPr>
              <a:t>ПОСТОЈАНОСТ ПОВЕЗА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Асоцијациј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откривена у 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једно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ј студији појављује се 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и у каснијим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испитивањима под другим околностима, у различитим популационим групама или уз помоћ других методолошких приступ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Критеријум који подржав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каузалну природу асоцијације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sr-CS" sz="2800" spc="-1" strike="noStrike" u="sng">
                <a:solidFill>
                  <a:srgbClr val="e22904"/>
                </a:solidFill>
                <a:uFillTx/>
                <a:latin typeface="Arial Cirilica"/>
              </a:rPr>
              <a:t>СЛАГАЊЕ СА</a:t>
            </a:r>
            <a:r>
              <a:rPr b="1" lang="sr-CS" sz="2800" spc="-1" strike="noStrike" u="sng">
                <a:solidFill>
                  <a:srgbClr val="e22904"/>
                </a:solidFill>
                <a:uFillTx/>
                <a:latin typeface="Arial"/>
              </a:rPr>
              <a:t> ПОСТОЈЕЋИМ ПОЗНАВАЊЕМ БОЛЕ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23619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 Cirilica"/>
              </a:rPr>
              <a:t>У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зрочна интерпретација прихватљива у односу на степен познавања каузалних фактора и боле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 Cirilica"/>
              </a:rPr>
              <a:t>У коликоп се 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Arial Cirilica"/>
              </a:rPr>
              <a:t>п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ретпостављено објашњењ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НЕ слаже са 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постојећим нивоом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знањ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треба да се испи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Критеријум који подржава каузалну природу асоцијације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sr-CS" sz="2800" spc="-1" strike="noStrike" u="sng">
                <a:solidFill>
                  <a:srgbClr val="e22904"/>
                </a:solidFill>
                <a:uFillTx/>
                <a:latin typeface="Arial"/>
              </a:rPr>
              <a:t>Слагање између дозе и ефек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Степен изложености расте (Е)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→ инциденција раст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6858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Критеријум који подржава каузалну природу асоцијације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sr-CS" sz="2800" spc="-1" strike="noStrike" u="sng">
                <a:solidFill>
                  <a:srgbClr val="e22904"/>
                </a:solidFill>
                <a:uFillTx/>
                <a:latin typeface="Arial"/>
              </a:rPr>
              <a:t>СПЕЦИФИЧНОСТ МЕЂУСОБНЕ ПОВЕЗА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6104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 Cirilica"/>
              </a:rPr>
              <a:t>Показује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 Cirilica"/>
              </a:rPr>
              <a:t>до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 које мере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узрочни фактори одређују настанак болести (специфичност је комплетна ако је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једна болест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последица само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једног узрока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1. Један узрок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више боле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болест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УЗР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болест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599840" y="68580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У процени каузалне повезаност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 Cirilica"/>
              </a:rPr>
              <a:t>критеријум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 u="sng">
                <a:solidFill>
                  <a:srgbClr val="e22904"/>
                </a:solidFill>
                <a:uFillTx/>
                <a:latin typeface="Arial"/>
              </a:rPr>
              <a:t>специфичност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мање задовољава </a:t>
            </a:r>
            <a:r>
              <a:rPr b="1" lang="sr-CS" sz="2800" spc="-1" strike="noStrike">
                <a:solidFill>
                  <a:srgbClr val="ffffff"/>
                </a:solidFill>
                <a:latin typeface="Arial Cirilica"/>
              </a:rPr>
              <a:t>од осталих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з два разлог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3276720" y="3048120"/>
            <a:ext cx="53316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76720" y="3429000"/>
            <a:ext cx="53316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52280" y="236196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 део дефинициј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односи се н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истраживања којима откривам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учесталост поремећаја здрављ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дистрибуцију поремећаја здрављ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која популација је захваће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у ком мести се јавља боле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да ли постоји правилност у јављању боле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676160" y="6858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100" spc="-1" strike="noStrike">
                <a:solidFill>
                  <a:srgbClr val="ffffff"/>
                </a:solidFill>
                <a:latin typeface="Arial"/>
              </a:rPr>
              <a:t>Дефиниција епидемиологије обухвата два подручја истраживања: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100"/>
            </a:b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У процени каузалне повезаност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 Cirilica"/>
              </a:rPr>
              <a:t>критеријум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 u="sng">
                <a:solidFill>
                  <a:srgbClr val="e22904"/>
                </a:solidFill>
                <a:uFillTx/>
                <a:latin typeface="Arial"/>
              </a:rPr>
              <a:t>специфичност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мање задовољава </a:t>
            </a:r>
            <a:r>
              <a:rPr b="1" lang="sr-CS" sz="2800" spc="-1" strike="noStrike">
                <a:solidFill>
                  <a:srgbClr val="ffffff"/>
                </a:solidFill>
                <a:latin typeface="Arial Cirilica"/>
              </a:rPr>
              <a:t>од осталих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з два разлог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Cirilic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 Cirilica"/>
              </a:rPr>
              <a:t>.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Мултикаузална природа обоњеља</a:t>
            </a:r>
            <a:r>
              <a:rPr b="0" lang="en-US" sz="2000" spc="-1" strike="noStrike">
                <a:solidFill>
                  <a:srgbClr val="ffffff"/>
                </a:solidFill>
                <a:latin typeface="Arial Cirilic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 Cirilica"/>
              </a:rPr>
              <a:t>Узрок </a:t>
            </a:r>
            <a:r>
              <a:rPr b="0" lang="en-US" sz="2000" spc="-1" strike="noStrike">
                <a:solidFill>
                  <a:srgbClr val="ffffff"/>
                </a:solidFill>
                <a:latin typeface="Arial Cirilic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 Cirilica"/>
              </a:rPr>
              <a:t>Узрок</a:t>
            </a:r>
            <a:r>
              <a:rPr b="0" lang="en-US" sz="2000" spc="-1" strike="noStrike">
                <a:solidFill>
                  <a:srgbClr val="ffffff"/>
                </a:solidFill>
                <a:latin typeface="Arial Cirilica"/>
              </a:rPr>
              <a:t> 2              </a:t>
            </a:r>
            <a:r>
              <a:rPr b="0" lang="sr-CS" sz="2000" spc="-1" strike="noStrike">
                <a:solidFill>
                  <a:srgbClr val="ffffff"/>
                </a:solidFill>
                <a:latin typeface="Arial Cirilica"/>
              </a:rPr>
              <a:t>болест</a:t>
            </a:r>
            <a:r>
              <a:rPr b="0" lang="en-US" sz="2000" spc="-1" strike="noStrike">
                <a:solidFill>
                  <a:srgbClr val="ffffff"/>
                </a:solidFill>
                <a:latin typeface="Arial Cirilica"/>
              </a:rPr>
              <a:t>         </a:t>
            </a:r>
            <a:r>
              <a:rPr b="0" lang="sr-CS" sz="2000" spc="-1" strike="noStrike">
                <a:solidFill>
                  <a:srgbClr val="ffffff"/>
                </a:solidFill>
                <a:latin typeface="Arial Cirilica"/>
              </a:rPr>
              <a:t>алтернативни каузални фактор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 Cirilica"/>
              </a:rPr>
              <a:t>Узрок</a:t>
            </a:r>
            <a:r>
              <a:rPr b="0" lang="en-US" sz="2000" spc="-1" strike="noStrike">
                <a:solidFill>
                  <a:srgbClr val="ffffff"/>
                </a:solidFill>
                <a:latin typeface="Arial Cirilica"/>
              </a:rPr>
              <a:t>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 Cirilica"/>
              </a:rPr>
              <a:t>Узрок </a:t>
            </a:r>
            <a:r>
              <a:rPr b="0" lang="en-US" sz="2000" spc="-1" strike="noStrike">
                <a:solidFill>
                  <a:srgbClr val="ffffff"/>
                </a:solidFill>
                <a:latin typeface="Arial Cirilic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 Cirilica"/>
              </a:rPr>
              <a:t>Узрок</a:t>
            </a:r>
            <a:r>
              <a:rPr b="0" lang="en-US" sz="2000" spc="-1" strike="noStrike">
                <a:solidFill>
                  <a:srgbClr val="ffffff"/>
                </a:solidFill>
                <a:latin typeface="Arial Cirilica"/>
              </a:rPr>
              <a:t> 2               </a:t>
            </a:r>
            <a:r>
              <a:rPr b="0" lang="sr-CS" sz="2000" spc="-1" strike="noStrike">
                <a:solidFill>
                  <a:srgbClr val="ffffff"/>
                </a:solidFill>
                <a:latin typeface="Arial Cirilica"/>
              </a:rPr>
              <a:t>болест</a:t>
            </a:r>
            <a:r>
              <a:rPr b="0" lang="en-US" sz="2000" spc="-1" strike="noStrike">
                <a:solidFill>
                  <a:srgbClr val="ffffff"/>
                </a:solidFill>
                <a:latin typeface="Arial Cirilica"/>
              </a:rPr>
              <a:t>         </a:t>
            </a:r>
            <a:r>
              <a:rPr b="0" lang="sr-CS" sz="2000" spc="-1" strike="noStrike">
                <a:solidFill>
                  <a:srgbClr val="ffffff"/>
                </a:solidFill>
                <a:latin typeface="Arial Cirilica"/>
              </a:rPr>
              <a:t>кумулативно дејство каузалних факто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 Cirilica"/>
              </a:rPr>
              <a:t>Узрок</a:t>
            </a:r>
            <a:r>
              <a:rPr b="0" lang="en-US" sz="2000" spc="-1" strike="noStrike">
                <a:solidFill>
                  <a:srgbClr val="ffffff"/>
                </a:solidFill>
                <a:latin typeface="Arial Cirilica"/>
              </a:rPr>
              <a:t> 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CS" sz="1300" spc="-1" strike="noStrike">
                <a:solidFill>
                  <a:srgbClr val="ffffff"/>
                </a:solidFill>
                <a:latin typeface="Arial Cirilica"/>
              </a:rPr>
              <a:t>ни један</a:t>
            </a:r>
            <a:r>
              <a:rPr b="0" lang="en-US" sz="13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1300" spc="-1" strike="noStrike">
                <a:solidFill>
                  <a:srgbClr val="ffffff"/>
                </a:solidFill>
                <a:latin typeface="Arial Cirilica"/>
              </a:rPr>
              <a:t>од узр</a:t>
            </a:r>
            <a:r>
              <a:rPr b="0" lang="en-US" sz="1300" spc="-1" strike="noStrike">
                <a:solidFill>
                  <a:srgbClr val="ffffff"/>
                </a:solidFill>
                <a:latin typeface="Arial Cirilica"/>
              </a:rPr>
              <a:t>. </a:t>
            </a:r>
            <a:r>
              <a:rPr b="0" lang="sr-CS" sz="1300" spc="-1" strike="noStrike">
                <a:solidFill>
                  <a:srgbClr val="ffffff"/>
                </a:solidFill>
                <a:latin typeface="Arial Cirilica"/>
              </a:rPr>
              <a:t>Ф</a:t>
            </a:r>
            <a:r>
              <a:rPr b="0" lang="en-US" sz="1300" spc="-1" strike="noStrike">
                <a:solidFill>
                  <a:srgbClr val="ffffff"/>
                </a:solidFill>
                <a:latin typeface="Arial Cirilica"/>
              </a:rPr>
              <a:t>. </a:t>
            </a:r>
            <a:r>
              <a:rPr b="0" lang="sr-CS" sz="1300" spc="-1" strike="noStrike">
                <a:solidFill>
                  <a:srgbClr val="ffffff"/>
                </a:solidFill>
                <a:latin typeface="Arial Cirilica"/>
              </a:rPr>
              <a:t>сам за себе</a:t>
            </a:r>
            <a:r>
              <a:rPr b="0" lang="en-US" sz="13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1300" spc="-1" strike="noStrike">
                <a:solidFill>
                  <a:srgbClr val="ffffff"/>
                </a:solidFill>
                <a:latin typeface="Arial Cirilica"/>
              </a:rPr>
              <a:t>није довољан</a:t>
            </a:r>
            <a:r>
              <a:rPr b="0" lang="en-US" sz="13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1300" spc="-1" strike="noStrike">
                <a:solidFill>
                  <a:srgbClr val="ffffff"/>
                </a:solidFill>
                <a:latin typeface="Arial Cirilica"/>
              </a:rPr>
              <a:t>да проузрокује болест</a:t>
            </a:r>
            <a:r>
              <a:rPr b="0" lang="en-US" sz="1300" spc="-1" strike="noStrike">
                <a:solidFill>
                  <a:srgbClr val="ffffff"/>
                </a:solidFill>
                <a:latin typeface="Arial Cirilica"/>
              </a:rPr>
              <a:t>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3200400"/>
            <a:ext cx="60984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66680" y="35053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143000" y="3580920"/>
            <a:ext cx="53352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4724280"/>
            <a:ext cx="228600" cy="914400"/>
          </a:xfrm>
          <a:custGeom>
            <a:avLst/>
            <a:gdLst>
              <a:gd name="textAreaLeft" fmla="*/ 0 w 228600"/>
              <a:gd name="textAreaRight" fmla="*/ 8244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76320" y="2438280"/>
            <a:ext cx="8991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4800" spc="-1" strike="noStrike">
                <a:solidFill>
                  <a:srgbClr val="ffffff"/>
                </a:solidFill>
                <a:latin typeface="Arial"/>
              </a:rPr>
              <a:t>ПОЈАМ ДОВОЉНОГ и НЕОПХОДНОГ УЗРО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9144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ffff00"/>
                </a:solidFill>
                <a:latin typeface="Arial"/>
              </a:rPr>
              <a:t>Појам довољног и неопходног узрока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40960" y="2678040"/>
            <a:ext cx="6750360" cy="30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Значај једног </a:t>
            </a:r>
            <a:r>
              <a:rPr b="1" lang="sr-CS" sz="2800" spc="-1" strike="noStrike">
                <a:solidFill>
                  <a:srgbClr val="ffffff"/>
                </a:solidFill>
                <a:latin typeface="Arial Cirilica"/>
              </a:rPr>
              <a:t>узр</a:t>
            </a:r>
            <a:r>
              <a:rPr b="1" lang="en-US" sz="2800" spc="-1" strike="noStrike">
                <a:solidFill>
                  <a:srgbClr val="ffffff"/>
                </a:solidFill>
                <a:latin typeface="Arial Cirilica"/>
              </a:rPr>
              <a:t>o</a:t>
            </a:r>
            <a:r>
              <a:rPr b="1" lang="sr-CS" sz="2800" spc="-1" strike="noStrike">
                <a:solidFill>
                  <a:srgbClr val="ffffff"/>
                </a:solidFill>
                <a:latin typeface="Arial Cirilica"/>
              </a:rPr>
              <a:t>к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→ настанак боле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  <a:ea typeface="Arial"/>
              </a:rPr>
              <a:t>П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роцват бектериологије у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XIX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 веку и упознавање етиологије заразних боле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ffff00"/>
                </a:solidFill>
                <a:latin typeface="Arial"/>
              </a:rPr>
              <a:t>Појам довољног и неопходног узрока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Шта је са бројним другим факторима везаним за човека и средину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*) ТБ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Arial"/>
              </a:rPr>
              <a:t>M. Tubercul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- пол, узраст, генетска конституција, ухрањеност, социо-економски услов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)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Сифили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ponema pallid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услови које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обезбеђују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човек и сред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ffff00"/>
                </a:solidFill>
                <a:latin typeface="Arial"/>
              </a:rPr>
              <a:t>Довољан узрок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871280" y="2470320"/>
            <a:ext cx="6296040" cy="30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Многобројн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 фактори чине компоненте довољног узорка али су 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сам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н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довољни да узрокују оштећење здрављ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7543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ffff00"/>
                </a:solidFill>
                <a:latin typeface="Arial"/>
              </a:rPr>
              <a:t>НЕОПХОДАН (нужан) узрок-агенс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Компонента довољног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узрока која је неопходан услов за настанак боле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Фактор без кога нема обољењ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*) инфективни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агенс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) физички, хемијски и механички агенс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95280" y="663120"/>
            <a:ext cx="52578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500" spc="-1" strike="noStrike">
                <a:solidFill>
                  <a:srgbClr val="ffff00"/>
                </a:solidFill>
                <a:latin typeface="Arial"/>
              </a:rPr>
              <a:t>НЕОПХОДАН узрок заразних болести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871640" y="2817720"/>
            <a:ext cx="623088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Биолошки инфективни аген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*) Вирусни хепатитис Б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*) Туберкуло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*) Мале богињ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ffff00"/>
                </a:solidFill>
                <a:latin typeface="Arial"/>
              </a:rPr>
              <a:t>Неопходан (нужан) узрок - агенс за </a:t>
            </a:r>
            <a:r>
              <a:rPr b="0" lang="sr-CS" sz="3500" spc="-1" strike="noStrike">
                <a:solidFill>
                  <a:srgbClr val="ffff00"/>
                </a:solidFill>
                <a:latin typeface="Arial"/>
              </a:rPr>
              <a:t>већину хроничних незаразних болести 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Фактор без кога нема обољењ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*)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ознавање неопходних чинилаца оскудно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за већину хроничних незаразних болес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малигне боле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кардиоваскулар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ендемска нефропат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дијабете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670536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ffff00"/>
                </a:solidFill>
                <a:latin typeface="Arial"/>
              </a:rPr>
              <a:t>ПОМАЖУЋИ ФАКТОРИ или ФАКТОРИ РИЗИКА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0769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Откривени с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епидемиолошким студијама и даље се откривај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В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езани за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карактеристике домаћин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среди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Д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оприносе појав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болести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(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малигни тумори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нека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КВО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ендемска нефропатија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дијабетес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900" spc="-1" strike="noStrike">
                <a:solidFill>
                  <a:srgbClr val="ffff00"/>
                </a:solidFill>
                <a:latin typeface="Arial"/>
              </a:rPr>
              <a:t>Помажући фактори или фактори ризика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До данас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идентификоване бројне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узрочне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компоненте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разних облика канце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Теже да откријемо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 Cirilica"/>
              </a:rPr>
              <a:t>каузалне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 механизме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који ће имати карактер</a:t>
            </a:r>
            <a:r>
              <a:rPr b="0" lang="en-US" sz="28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неопходног узрока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 Cirilica"/>
              </a:rPr>
              <a:t>Г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овримо о 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факторима ризик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који заједно чине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довољан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узр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51920" y="2362320"/>
            <a:ext cx="899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I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 део дефинициј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односи се на етиологију болести и етиолошка истраживањ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Каузалне везе се проверавају ОПСЕРВАЦИЈО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e22904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Експеримент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у епидемиологиј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e22904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Аналитички мет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676160" y="7621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ffffff"/>
                </a:solidFill>
                <a:latin typeface="Arial"/>
              </a:rPr>
              <a:t>Дефиниција епидемиологије обухвата два подручја истраживања:</a:t>
            </a:r>
            <a:r>
              <a:rPr b="0" lang="sr-CS" sz="35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500"/>
            </a:b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99840" y="5335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ако процењујемо да су појаве удружене (да су у корелацији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360" y="24379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1.Сматрамо да је фактор у вези са обољењем али статистички 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нема корелаци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j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 Cirilica"/>
              </a:rPr>
              <a:t>нема статистичке значајности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Cirilic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22904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Грешка у методолошком приступ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22904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Мали узор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Ако постоје индиције да треба тражити узрочно-последичне вез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оновити истраживањ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овећати узор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520" y="307440"/>
            <a:ext cx="76201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Како процењујемо да су појаве удружене (да су у корелацији)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Arial Cirilica"/>
              </a:rPr>
              <a:t>Фактор у вези са</a:t>
            </a:r>
            <a:r>
              <a:rPr b="0" lang="en-US" sz="22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Arial Cirilica"/>
              </a:rPr>
              <a:t>обољењем и</a:t>
            </a:r>
            <a:r>
              <a:rPr b="0" lang="en-US" sz="22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1" lang="sr-CS" sz="2200" spc="-1" strike="noStrike" u="sng">
                <a:solidFill>
                  <a:srgbClr val="ffffff"/>
                </a:solidFill>
                <a:uFillTx/>
                <a:latin typeface="Arial Cirilica"/>
              </a:rPr>
              <a:t>статистички</a:t>
            </a:r>
            <a:r>
              <a:rPr b="1" lang="sr-CS" sz="2200" spc="-1" strike="noStrike" u="sng">
                <a:solidFill>
                  <a:srgbClr val="ffffff"/>
                </a:solidFill>
                <a:uFillTx/>
                <a:latin typeface="Arial"/>
              </a:rPr>
              <a:t> значајна веза доказан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22904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ffffff"/>
                </a:solidFill>
                <a:uFillTx/>
                <a:latin typeface="Arial"/>
              </a:rPr>
              <a:t>Не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значи да су појаве у </a:t>
            </a:r>
            <a:r>
              <a:rPr b="1" lang="sr-CS" sz="2200" spc="-1" strike="noStrike" u="sng">
                <a:solidFill>
                  <a:srgbClr val="ffffff"/>
                </a:solidFill>
                <a:uFillTx/>
                <a:latin typeface="Arial"/>
              </a:rPr>
              <a:t>узрочно-последичној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вез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22904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Последица </a:t>
            </a:r>
            <a:r>
              <a:rPr b="0" lang="sr-CS" sz="2200" spc="-1" strike="noStrike">
                <a:solidFill>
                  <a:srgbClr val="ffffff"/>
                </a:solidFill>
                <a:latin typeface="Arial Cirilica"/>
              </a:rPr>
              <a:t>су</a:t>
            </a:r>
            <a:r>
              <a:rPr b="0" lang="en-US" sz="2200" spc="-1" strike="noStrike">
                <a:solidFill>
                  <a:srgbClr val="ffffff"/>
                </a:solidFill>
                <a:latin typeface="Arial Cirilica"/>
              </a:rPr>
              <a:t> </a:t>
            </a:r>
            <a:r>
              <a:rPr b="1" lang="sr-CS" sz="2200" spc="-1" strike="noStrike" u="sng">
                <a:solidFill>
                  <a:srgbClr val="ffffff"/>
                </a:solidFill>
                <a:uFillTx/>
                <a:latin typeface="Arial"/>
              </a:rPr>
              <a:t>секундарне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повезаност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(фактор и обољење су повезани са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 варијаблом па добијамо повезаност фактора и обољења, а не што су они стварно повезани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Трећи фактор (конфаундинг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мешати, уплитати с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често присутан у епидемиологиј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Arial"/>
              </a:rPr>
              <a:t>спречава да сагледамо прави однос обољења и фактор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Како процењујемо да су појаве удружене (да су у корелацији)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3. Две појаве су заиста у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КАУЗАЛНОМ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однос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22904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Ради се о високо </a:t>
            </a:r>
            <a:r>
              <a:rPr b="0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сигнификантној повезаност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која је послед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конфаундинг факто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раве повеза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раву повезаност откривамо посматрањем анамнестичким и кохортним студијама и пажљивом интерпретацијом њихових резулт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500" spc="-1" strike="noStrike">
                <a:solidFill>
                  <a:srgbClr val="ffffff"/>
                </a:solidFill>
                <a:latin typeface="Arial"/>
              </a:rPr>
              <a:t>Етиолошко расветљавање поремећаја здравља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280" y="2209320"/>
            <a:ext cx="8839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 Cirilica"/>
              </a:rPr>
              <a:t>Дефинициј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Повезаност међу догађајима је </a:t>
            </a:r>
            <a:r>
              <a:rPr b="1" lang="sr-CS" sz="3200" spc="-1" strike="noStrike" u="sng">
                <a:solidFill>
                  <a:srgbClr val="e22904"/>
                </a:solidFill>
                <a:uFillTx/>
                <a:latin typeface="Arial"/>
              </a:rPr>
              <a:t>КАУЗАЛНА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 уколико промене у </a:t>
            </a:r>
            <a:r>
              <a:rPr b="0" lang="sr-CS" sz="3200" spc="-1" strike="noStrike" u="sng">
                <a:solidFill>
                  <a:srgbClr val="ffcc00"/>
                </a:solidFill>
                <a:uFillTx/>
                <a:latin typeface="Arial"/>
              </a:rPr>
              <a:t>учесталости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 и </a:t>
            </a:r>
            <a:r>
              <a:rPr b="0" lang="sr-CS" sz="3200" spc="-1" strike="noStrike" u="sng">
                <a:solidFill>
                  <a:srgbClr val="ffcc00"/>
                </a:solidFill>
                <a:uFillTx/>
                <a:latin typeface="Arial"/>
              </a:rPr>
              <a:t>квалитету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 једних условљавају промену друг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60440"/>
            <a:ext cx="69339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500" spc="-1" strike="noStrike">
                <a:solidFill>
                  <a:srgbClr val="ffffff"/>
                </a:solidFill>
                <a:latin typeface="Arial"/>
              </a:rPr>
              <a:t>Временска повезаност догађаја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Циљ постављања асоцијације између предпостављеног узрока и очекиване последице је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етиолошко расветљавање (утврђивање каузалност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20-10-02T08:50:52Z</dcterms:modified>
  <cp:revision>1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