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F46-E4C9-40AF-8AE0-F96E4F07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D06-6277-416F-BD11-0C58AF2E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AA0-AD3E-4EBF-9DE5-F3487D71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75F-346D-4D5C-8642-039AD745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6EED-73FB-4059-834D-ECE9FD50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96E7-038D-4C9A-AAAF-5E1F140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15F9-E63C-4A47-BC02-854104BA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C5C1-5D5D-4C57-ACDB-12C6D3E5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9303-5426-4D87-BB9C-B03B471E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AA77-1953-4EA2-8E6E-C1259CBA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9E89-DF75-4271-B47F-DACCFEB5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8F3-D3E1-4282-9C9E-366CAAB1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6087-48A8-4B05-930B-3428639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1A2A-3A36-4B55-AE41-61D385F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64C-57EF-402E-A85D-014D7ED1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B5C1-36AD-4926-B065-87226806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A55-5423-4C2D-ADF5-BFFA271C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B30-B9CE-4C2D-856F-9B3956A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0C-811D-4AF0-94C3-6AEE6C1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766-08E3-4DCB-AB05-59E6277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3C5-BAFE-4DFA-938C-E133916E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853-8F31-4280-B782-FB2BF7C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FFE-E591-4F8C-9B2F-C2EB586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999-A77B-4B1F-A6BD-0FFC5C1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D2B-7BCA-4102-BED0-0A0E1281D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8C5C-BFC6-42D8-8D48-5DC9730B7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1/4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ЗЕМЉИШ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улога у преношењу незаразних боле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ЕМЉИШ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ИРЕКТНИ ЕФЕКТ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РЕКТНИ ЕФЕК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1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Значајан пут преношења проузроковач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тпорних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 спољ. средини или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 у случају свеж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Чест пут преношења 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гијенск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ПРЕДМЕ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РУ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БИОЛОШКИ ПРОДУК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 контактних епидемиј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43200" y="2437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3048120"/>
            <a:ext cx="685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2000" y="213372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епосредним путем (директни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1120" y="3352680"/>
            <a:ext cx="62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посредним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путем-загађеним предметима (индир. контак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1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ОСТЕПЕН ПОЧЕТ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  ДУГО ТРАЈАЊЕ епидемије и ПРОГРЕСИВАН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ЦЕНТРИФУГАЛНО  шире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4.   Везаност за ЛОШЕ ХИГИЈЕНСКЕ усло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контакт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ОДСУСТВО ВЕЗАНОСТИ ЗА СЕЗОН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ОЈАВА КОНТАКТНОГ РЕ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 1/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ије идеално средство за одржавање патогених микроорганиза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оузроковачи заразних болести разређ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ccecff"/>
                </a:solidFill>
                <a:latin typeface="Times New Roman"/>
              </a:rPr>
              <a:t>Путеви преношења заразних болести</a:t>
            </a:r>
            <a:br>
              <a:rPr sz="3200"/>
            </a:br>
            <a:br>
              <a:rPr sz="3600"/>
            </a:b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1" lang="sr-CS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директно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Резервоар</a:t>
            </a:r>
            <a:r>
              <a:rPr b="0" lang="sr-C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                                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Осетљива особа</a:t>
            </a:r>
            <a:br>
              <a:rPr sz="2000"/>
            </a:br>
            <a:r>
              <a:rPr b="0" lang="sr-CS" sz="2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ccecff"/>
                </a:solidFill>
                <a:latin typeface="Arial"/>
              </a:rPr>
              <a:t>II </a:t>
            </a:r>
            <a:r>
              <a:rPr b="1" lang="sr-CS" sz="2000" spc="-1" strike="noStrike">
                <a:solidFill>
                  <a:srgbClr val="ccecff"/>
                </a:solidFill>
                <a:latin typeface="Times New Roman"/>
              </a:rPr>
              <a:t>индиректно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Директни или непосредни конт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загађене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љуба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лни а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порођајни п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- ује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2.      Капљица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3.      Трансплацентар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4.      Земљиштем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57440" y="2285640"/>
            <a:ext cx="34290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НДИРЕКТНИ ПРЕН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дмети и биолошки материј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зд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2/</a:t>
            </a: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 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кол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трбушни 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аратиф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патитис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дизенте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цревни парази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ЕКСПЛОЗИВНО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ТРАЈАЊ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ЛИТИ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ОЈАВА ВОДЕ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ДУЖЕНА ИНКУБАЦИЈ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ПРОМЕНА ОРГАНОЛЕПТИЧКИХ СВОЈСТАВА В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? 2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РИСУСТВО ИНДИКАТОРА ФЕКАЛНОГ ЗАГАЂЕЊА И ЕВЕНТУАЛНО НАЛАЗ ПАТОГЕНОГ УЗРОЧ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ОДСУСТВО СЕЗОНСКИХ ВАРИЈ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9. ДЕМОГРАФСКО И СОЦИЈАЛНО ШАРЕНИЛО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хидричних епидемија</a:t>
            </a:r>
            <a:r>
              <a:rPr b="0" lang="sr-CS" sz="4000" spc="-1" strike="noStrike">
                <a:solidFill>
                  <a:srgbClr val="ccecff"/>
                </a:solidFill>
                <a:latin typeface="Times New Roman"/>
              </a:rPr>
              <a:t>?</a:t>
            </a: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 3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Е ГРУПЕ ЗДРАВИХ И ОБОЛЕЛ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здравих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гатив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нтролна група оболелих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зитив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ролна груп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Р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деална средина за опстанак микроорганизама и размножа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многих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РАЗН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боле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ут преношењ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ЗАРАЗНИ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болести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Индиректни пренос- ХР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им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ран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е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садржи проузроковаче болести односно отровне супстанције различитог порек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екундарна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контамин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онтаминациј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ком обрад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транспор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ecff"/>
                </a:solidFill>
                <a:latin typeface="Times New Roman"/>
              </a:rPr>
              <a:t>НАМИРНИЦЕ ЕПИДЕМИОЛОШКИ ИНТЕРЕСАНТНИЈЕ ОД ОСТАЛИХ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ЛЕКО И МЛЕЧНИ ПРОИЗВО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МЕСО И МЕСНЕ ПРЕРАЂЕВИН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ЈА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ВОЋЕ И ПОВРЋ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ХЛАДНА ПРЕДЈ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Карактеристике </a:t>
            </a:r>
            <a:r>
              <a:rPr b="1" lang="sr-C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лиментарних</a:t>
            </a: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 епидемија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ИСОК МОРБИДИТ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РАТКО ТРАЈАЊЕ ЕПИДЕМ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НОТИ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КРАЋЕНА ИНКУБ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ЕЗОНСКИ КАРАК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лиментарних епидемија? 2/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7. КОНТРОЛНА ГРУПА ЗДРАВИХ И ОБОЛЕЛИХ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“КОНТАКТНИ РЕП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057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. 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представља повољну средину за микроорганиз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ма значајну улогу за преношење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3152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Капљична јез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Праш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ecff"/>
                </a:solidFill>
                <a:latin typeface="Times New Roman"/>
              </a:rPr>
              <a:t>Начини преношења микроорганизама ваздухом ? 1/2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апљична језг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Ситније Флигеове капи трансформишу се у капљична језгра (нуклеуси 1-10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 ВАЗДУ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аздухом се прено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микроорганизми и други биолошки агенс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физички аген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хемијски аген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пидемије болести које се преносе ВАЗДУХОМ (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чна језгр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рашина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сличне карактеристикама капљичних епидем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ноге болести се истовремено преносе и КАПЉИЦАМА и ваздух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Карактеристике аерогених епидемија</a:t>
            </a:r>
            <a:r>
              <a:rPr b="1" lang="sr-CS" sz="4000" spc="-1" strike="noStrike">
                <a:solidFill>
                  <a:srgbClr val="ccec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2. Масов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imes New Roman"/>
              </a:rPr>
              <a:t>3. Висок морбидит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Индиректни пренос -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иви преносилац који преноси инфективни агенс са заражене јединке или њених излучевина до осетљиве јединке, њене хране или непосредне окол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ипадају колу зглавкара (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rthropo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ебан епидемиолошки значај имају представници класа инсеката (ваши, комарци, буве, стенице, муве) и паукова (крпељи и грињ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ВЕКТО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у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мар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рпељ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У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ношењу заразни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болести, </a:t>
            </a:r>
            <a:r>
              <a:rPr b="1" lang="sr-CS" sz="4800" spc="-1" strike="noStrike">
                <a:solidFill>
                  <a:srgbClr val="afe1ff"/>
                </a:solidFill>
                <a:latin typeface="Arial"/>
              </a:rPr>
              <a:t>ВЕКТО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(припадају кол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зглавкара) имај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Биолошку, акт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1100"/>
              </a:spcBef>
              <a:buClr>
                <a:srgbClr val="afe1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Механичку, пасивну улог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 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физички додир резервоара и здраве особ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значајан за преношење проузроковача осетљивих у спољашњој сред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В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ектори имај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4400" spc="-1" strike="noStrike" u="sng">
                <a:solidFill>
                  <a:srgbClr val="ffffff"/>
                </a:solidFill>
                <a:uFillTx/>
                <a:latin typeface="Arial"/>
              </a:rPr>
              <a:t>биолошку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улогу ако 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оузроковачи у њима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множавај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spcBef>
                <a:spcPts val="1001"/>
              </a:spcBef>
              <a:buClr>
                <a:srgbClr val="afe1ff"/>
              </a:buClr>
              <a:buSzPct val="8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пролазе кроз одређен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азвојну фаз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800" spc="-1" strike="noStrike">
              <a:solidFill>
                <a:srgbClr val="afe1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afe1ff"/>
                </a:solidFill>
                <a:latin typeface="Arial"/>
              </a:rPr>
              <a:t>Б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олести које прено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хематофагни вектори кој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имај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специфичну, биолош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улогу зову се:</a:t>
            </a:r>
            <a:r>
              <a:rPr b="1" i="1" lang="sr-CS" sz="3600" spc="-1" strike="noStrike">
                <a:solidFill>
                  <a:srgbClr val="afe1ff"/>
                </a:solidFill>
                <a:latin typeface="Arial"/>
              </a:rPr>
              <a:t>ТРАНСМИСИВН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3600" spc="-1" strike="noStrike">
                <a:solidFill>
                  <a:srgbClr val="afe1ff"/>
                </a:solidFill>
                <a:latin typeface="Arial"/>
              </a:rPr>
              <a:t>преносним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) ил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крвним, јер се узрочници ти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зараза налазе у кр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afe1ff"/>
                </a:solidFill>
                <a:latin typeface="Arial"/>
              </a:rPr>
              <a:t>МЕХАНИЧКА УЛ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деловима тела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вектора и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проласком кроз његов ГИТ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пренес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се проузроковачи заразн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болести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на храну, предмет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ређе до </a:t>
            </a:r>
            <a:r>
              <a:rPr b="0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осетљив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особ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Механизам НЕ подразумева развој НИ размножавање узрочника 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вектор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аш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егавац и вашљиву повратну грозниц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скључиви паразити ч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унутрашњој страни рубља, на тело прелазе ради крвног об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БУВ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куге и мишјег пегав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чешће се хране крвљу глодара и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 човека прелазе у недостатку уобичајених домаћ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Комарц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ophel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проузроковаче малар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ulex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филаријазе и неке арбовирусе узрочнике менингоенцефалити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 род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edes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е узрочнике жуте грознице и денг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hlebotomusi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 преносиоци лајшманијазе и папатачи грозн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K</a:t>
            </a: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РПЕЉ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еносиоци проузроковача вирусних менингоенцефалитиса, већине пегавих грозница, лајмск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cecff"/>
                </a:solidFill>
                <a:latin typeface="Arial"/>
              </a:rPr>
              <a:t>Векторске заразне боле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нозе, за које је резервоар човек (пегавац, маларија, повратни вашљиви тифу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нтропозоонозе, за које су резервоари животиње (туларемија, куга, вирусни менингоенцефалити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д неких обољења резервоари могу бити и животиње и (жута грозница, кала-аз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Карактеристика векторских антропозоо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нденција ка стварању ензоотичних жаришта ( хеморагичне грознице, крпељске менингоенцефалитисе, крпељске повратне грознице, лајшманијазу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Фактори спољне средине утичу на епидемиолошку ситуацију преко свог деловања на вект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Ендемски карактер, географска распрострањеност и сезонска учесталост зависе од механизама локалног преживљавања проузроковача у неповољним условима или поновног уношења у одговарајуће ендемско подруч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ИРЕКТНИ ИЛИ НЕПОСРЕДНИ КОНТАКТ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ПРЕК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гађених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љупца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(респираторне-грип, осипне грознице, инфективна мононуклеоз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лног акт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сида, сифилис, гонореја, меки шанкр, хепатитис Б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г)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порођајног канал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гонореја, сифилис, си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)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Times New Roman"/>
              </a:rPr>
              <a:t>ујед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(беснил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 условима погодним за векторе, односно, ако су у питању антропозоонозе, за њихове анималне резервоаре, векторске болести могу за кратко време да угрозе велики број љу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ccecff"/>
                </a:solidFill>
                <a:latin typeface="Arial"/>
              </a:rPr>
              <a:t>Епидемиолошке карактеристике векторских инфекциј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оцијално-економски услови који омогућавају или размножавање вектора или повећавају изложеност зарази и могућност уједа зглавк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1/3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Узрочниц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заразних болести са капљицама 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слуз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Флигео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капљице) из резервоара доспевају у ва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угроженији-оникоји су најближи резервоару (повећањем удаљености осетљиве особе од резервоара заразе смањује се могућност заражавањ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ПЉ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ФЛИГЕОВА капљ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ода, беланчевине, минералне с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величина 1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мет у ваздуху (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) зависи од величине и брз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значај у преношењу проузроковач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сетљивих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у спољ. среди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најједноставнији пут преношења заразних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може се битно утицат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вентивним мерам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 на расејавање микроорганизама капљиц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осебан значај имају у пренасељеним градским условима (“болести цивилизациј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”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 u="sng">
                <a:solidFill>
                  <a:srgbClr val="ccecff"/>
                </a:solidFill>
                <a:uFillTx/>
                <a:latin typeface="Times New Roman"/>
              </a:rPr>
              <a:t>Карактеристике капљичних епидемија</a:t>
            </a:r>
            <a:r>
              <a:rPr b="0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 3/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Експлозив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нагло настају, шире се брзином саобраћајних сред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асов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(велики број оболелих) и висок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Mb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лакоћа ширењ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особа изложен агенсу у густо насељеним подручј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степен колективног имунит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исок ИКМ (грип, варичела, морби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низак ИКМ (дифтерија, епидемични менингитис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-велики број субклиничких облика, мали број манифестно оболел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Циклич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зонски карактер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хладним месецима, груписање људи у затвореним просторија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екуларна цикличност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(у вези са природним прираштајем и стањем колективног имунит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морбили-сваке друге годи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аричела-сваких неколико год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инфлуенца-велики интервални тал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ecff"/>
                </a:solidFill>
                <a:latin typeface="Times New Roman"/>
              </a:rPr>
              <a:t>ДИРЕКТНИ ПРЕН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АНСПЛАЦЕНТАР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- преношење биолошког агенса са инфициране мајке на плод преко плацен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25% новорођенчади чије су мајке у прва три месеца имале рубелу развија се рубела конгенитални синд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5-09-11T07:42:40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